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8C5-1A57-46CB-9413-436F59E0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CD8-A0A8-496B-963C-A744BA3D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09D-B730-4E4A-8DBF-E561E054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6BB-3FC8-4574-B030-67EECA04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A7B-8590-407E-ACC2-01D8D9DD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449F-9DD4-4F76-8704-EF60E3FD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F07F-F791-4A68-A2CF-DBD274FB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3DE-60FC-4D80-AEB9-73E669F9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ECDE-F612-4AD4-B68C-0CE67792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539-5267-44D3-891F-6E29DCF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F17-30F8-4B83-B7A8-AD26880C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50C-C765-4CAF-A409-FD02315B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4ED5-17E7-4AEC-9A5E-658FB65C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37CE-A348-4F68-9523-9FBC0FE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4A6A-24EC-410F-9511-F83281BE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EBC4-E000-4EDF-9D5C-8E6F1572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8863-BC15-4BE3-89A8-C0E9C9DD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26-B1CD-429D-A111-5E74982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E5D-2A04-492C-831C-5654ADA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8ED-E6C1-4A06-B295-6B8590AA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D65-95B7-4468-9D99-3919D4BE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19A-082C-43BF-B515-6CB62BC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89F-FC6C-4C21-A55F-3BD357C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AC9-2A63-4B16-9825-A55B543D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43B6-8DCF-4698-B384-DC9A5D90FE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BF80-331C-4349-BB4A-6CC0BFFB13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PASTE   FERICIT 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 bine asa.  Suntem fericiti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54832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50:02Z</dcterms:created>
  <dc:creator>roby</dc:creator>
  <dc:description/>
  <dc:language>en-US</dc:language>
  <cp:lastModifiedBy>lau</cp:lastModifiedBy>
  <dcterms:modified xsi:type="dcterms:W3CDTF">2008-05-04T11:01:51Z</dcterms:modified>
  <cp:revision>2</cp:revision>
  <dc:subject/>
  <dc:title>     PASTE   FERICIT !</dc:title>
</cp:coreProperties>
</file>